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wmf" ContentType="image/x-wmf"/>
  <Override PartName="/ppt/media/image3.wmf" ContentType="image/x-wmf"/>
  <Override PartName="/ppt/media/image4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AA1-1332-4BF0-9C88-3EC8C57E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B9F-9D1D-4DD5-AEE3-C750AAA8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7FB5-4776-40C3-8268-3682B7E2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DC8-87C0-404F-B973-BF9DD151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7F1A-25C2-4698-8180-37CA0BC7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2789-A6A2-49EA-B9BE-679543A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0A3E-C03C-48F7-BD00-72B93141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5852-92A9-4EC5-A783-9B061D76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C729-4597-4687-B0CB-74ED45F0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90C8-AE55-409A-8A88-CD347C5C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B7E2-6C12-4EFA-AB7D-A54490EB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AEAF-1C68-4C06-822D-17D578A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1755-3675-4C48-A7AC-C0F0569D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E4E3-827B-4EB7-80E7-A288AB6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D53F-D669-4BE5-B7AD-77CC3A9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967-DF01-44BB-9757-1E360C45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EF9E-A7A0-4F71-B921-41135881E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B594-0635-43BE-8A0E-A2C3EE27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425-6F19-43E7-BB19-F7AB570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3B9-E3D8-4B76-ABA4-8F87EB5D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CC1-15B7-461B-A652-5E7CEF4C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22E5-C064-436B-A2FD-146C073A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882-8146-481A-BFB6-9A7A357D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B79C-ED36-4712-945E-E7F8E3FD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A299-7E1C-432A-9309-5A8C152B23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CDA0-CB9F-4A0B-9F9B-9A328DE483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5.png"/><Relationship Id="rId3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mpararea numerelor naturale de la 0 la 100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118240" y="4165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40680" y="41482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37600" y="41655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352440" cy="885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760320" cy="1924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54880" y="32338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1598400" cy="20001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15000" y="31240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251600" y="342900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5909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295280" y="3048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295280" y="2743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295280" y="28954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676520" y="3048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1676520" y="289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4419720" y="3048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4419720" y="28954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4419720" y="27432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4419720" y="25909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2"/>
          <a:stretch/>
        </p:blipFill>
        <p:spPr>
          <a:xfrm>
            <a:off x="4800600" y="3048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3"/>
          <a:stretch/>
        </p:blipFill>
        <p:spPr>
          <a:xfrm>
            <a:off x="4800600" y="2895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4"/>
          <a:stretch/>
        </p:blipFill>
        <p:spPr>
          <a:xfrm>
            <a:off x="4876920" y="2743200"/>
            <a:ext cx="81000" cy="81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5"/>
          <a:stretch/>
        </p:blipFill>
        <p:spPr>
          <a:xfrm>
            <a:off x="4800600" y="26668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1680" y="33526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15760" y="34290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5400" y="338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6"/>
          <a:stretch/>
        </p:blipFill>
        <p:spPr>
          <a:xfrm>
            <a:off x="91440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7"/>
          <a:stretch/>
        </p:blipFill>
        <p:spPr>
          <a:xfrm>
            <a:off x="990720" y="46483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8"/>
          <a:stretch/>
        </p:blipFill>
        <p:spPr>
          <a:xfrm>
            <a:off x="1066680" y="44956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9"/>
          <a:stretch/>
        </p:blipFill>
        <p:spPr>
          <a:xfrm>
            <a:off x="914400" y="44956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0"/>
          <a:stretch/>
        </p:blipFill>
        <p:spPr>
          <a:xfrm>
            <a:off x="106668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1"/>
          <a:stretch/>
        </p:blipFill>
        <p:spPr>
          <a:xfrm>
            <a:off x="990720" y="41911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2"/>
          <a:stretch/>
        </p:blipFill>
        <p:spPr>
          <a:xfrm>
            <a:off x="1371600" y="434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3"/>
          <a:stretch/>
        </p:blipFill>
        <p:spPr>
          <a:xfrm>
            <a:off x="1371600" y="4495680"/>
            <a:ext cx="147600" cy="147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4"/>
          <a:stretch/>
        </p:blipFill>
        <p:spPr>
          <a:xfrm>
            <a:off x="4267080" y="43434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5"/>
          <a:stretch/>
        </p:blipFill>
        <p:spPr>
          <a:xfrm>
            <a:off x="4419720" y="42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6"/>
          <a:stretch/>
        </p:blipFill>
        <p:spPr>
          <a:xfrm>
            <a:off x="4343400" y="4419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7"/>
          <a:stretch/>
        </p:blipFill>
        <p:spPr>
          <a:xfrm>
            <a:off x="4343400" y="411480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8"/>
          <a:stretch/>
        </p:blipFill>
        <p:spPr>
          <a:xfrm>
            <a:off x="4495680" y="441972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9"/>
          <a:stretch/>
        </p:blipFill>
        <p:spPr>
          <a:xfrm>
            <a:off x="4724280" y="4343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0"/>
          <a:stretch/>
        </p:blipFill>
        <p:spPr>
          <a:xfrm>
            <a:off x="4724280" y="4191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1"/>
          <a:stretch/>
        </p:blipFill>
        <p:spPr>
          <a:xfrm>
            <a:off x="4267080" y="419112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14920" y="5257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3200" y="5137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52200" y="50608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xerci</a:t>
            </a:r>
            <a:r>
              <a:rPr b="0" lang="ro-RO" sz="4400" spc="-1" strike="noStrike">
                <a:solidFill>
                  <a:srgbClr val="dbbd71"/>
                </a:solidFill>
                <a:latin typeface="Arial"/>
              </a:rPr>
              <a:t>ţ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1. Aranjaţi numerele în ordine crescătoare, de la cel mai mic la cel mai m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13, 27, 9, 23,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2. Aranjaţi numerele în ordine descrescătoare, de la cel mai mare la cel mai 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29, 47, 81, 36, 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3. Puneţi semne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, &gt;,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7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5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2    21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94 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5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34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9    97     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7     7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54:46Z</dcterms:created>
  <dc:creator>Albert Hajnalka</dc:creator>
  <dc:description/>
  <dc:language>en-US</dc:language>
  <cp:lastModifiedBy> </cp:lastModifiedBy>
  <dcterms:modified xsi:type="dcterms:W3CDTF">2010-09-11T10:51:17Z</dcterms:modified>
  <cp:revision>3</cp:revision>
  <dc:subject/>
  <dc:title>Compararea numerelor naturale de la 0 la 100</dc:title>
</cp:coreProperties>
</file>